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004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2720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84400" y="6286680"/>
            <a:ext cx="54000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11148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686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695760" y="6276960"/>
            <a:ext cx="2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633744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HlogoforPresPro" descr="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" name="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6720" y="0"/>
            <a:ext cx="2552760" cy="90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0040" y="517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ation 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HlogoforPresPro" descr="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480" algn="ctr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5440" algn="ctr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5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54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4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4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4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4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9.xml"/><Relationship Id="rId12" Type="http://schemas.openxmlformats.org/officeDocument/2006/relationships/image" Target="../media/image1.jpeg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image" Target="../media/image1.jpeg"/><Relationship Id="rId16" Type="http://schemas.openxmlformats.org/officeDocument/2006/relationships/slide" Target="slide14.xml"/><Relationship Id="rId17" Type="http://schemas.openxmlformats.org/officeDocument/2006/relationships/slide" Target="slide3.xml"/><Relationship Id="rId18" Type="http://schemas.openxmlformats.org/officeDocument/2006/relationships/image" Target="../media/image1.jpeg"/><Relationship Id="rId19" Type="http://schemas.openxmlformats.org/officeDocument/2006/relationships/slide" Target="slide3.xml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image" Target="../media/image1.jpeg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4.xml"/><Relationship Id="rId5" Type="http://schemas.openxmlformats.org/officeDocument/2006/relationships/image" Target="../media/image1.jpeg"/><Relationship Id="rId6" Type="http://schemas.openxmlformats.org/officeDocument/2006/relationships/slide" Target="slide14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5680" y="6419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Arial"/>
              </a:rPr>
              <a:t>© 2001 by Prentice Hall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Magruder’s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American Governmen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 H A P T E R  9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est Group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Reasons for Interest Grou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nterest groups have been founded on the basis of 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terest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ally business, labor, agricultural, and professional inter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re grounded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re based on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or idea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as environmental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mot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far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ertain groups of people, such as retired citiz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re run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mbership in Labor Un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1601640" y="950760"/>
            <a:ext cx="5853240" cy="5139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ublic-Interest Grou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97272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spcBef>
                <a:spcPts val="2701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public-interest grou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n interest group that seeks to institute certain public policies that will benefit all or most of the people in the country, whether or not they belong to that organ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2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What kind of an interest group is the National Bar Associ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Relig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Profes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Labor 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he Wilderness Society is what type of interest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Cause-re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Profes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Public-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3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terest Groups at Work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9240" y="912600"/>
            <a:ext cx="88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1960" indent="-29196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interest groups’ three major goals in influencing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nterest groups use propaganda to persuade people to their point of vi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nterest groups try to influence political parties and el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lobbying bring group pressures to bear on the process of making public poli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fluencing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groups reach out to the public for these rea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o supply information in support of the group’s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o build a positive image for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o promote a particular public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Propaganda</a:t>
            </a:r>
            <a:endParaRPr b="1" lang="en-US" sz="3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5640" indent="-3056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pagan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echnique of persuasion aimed at influencing individual or group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-3056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goal is to create a particular belief which may be true or fa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-3056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disregards information that does not support its conclusion.  It is not objective. It presents only one side of an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640" indent="-3056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 often relies on name-calling and inflammatory lab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fluencing Parties and Elec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litical Action Committ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ACs) raise and distribute money to candidates who will further their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1527120" y="1833480"/>
            <a:ext cx="5967360" cy="4280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obbying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9240" indent="-3092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obb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activity by which a group pressures legislators and influences the legislativ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bbying carries beyond the legislature.       It is brought into government agencies, the executive branch, and even the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all important organized interest groups maintain lobbyists in Washington,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obbyists at Work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988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bbyists use several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nd articles, reports, and other information to office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estify before legislative committ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ring “grass-roots” pressures to bear through email, letters, or phone calls from constitu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ate candidates and publicize the ra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ke campaign con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C H A P T E R  9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terest Grou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3240" y="1371600"/>
            <a:ext cx="79218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SECTION 1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The Nature of Interes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SECTION 2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Types of Interes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SECTION 3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Interest Groups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1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3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3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What is propagand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 bill that has been veto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A one-sided arg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An objective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 scientific p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How do lobbyists influence legislat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Campaign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“Grass roots” campa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Publicized ra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ll of the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1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Nature of Interest Grou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760" y="12952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 interest groups have in influencing public poli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compare and contrast political parties and interest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see interest groups as both good and bad for American poli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6760" y="274320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Role of Interest Grou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2480" indent="-31248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groups are private organizations whose members share certain views and work to shape public poli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ublic 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of the goals a government sets and the various courses of action it pursues as it attempts to realize these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groups exist to shape public poli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olitical Parties and Interest Grou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8679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5640" indent="-3056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itical parties and interest groups differ in three striking respects:     (1) in the making of nominations, (2) in their primary focus, and (3) in the scope of thei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om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640" indent="-305640">
              <a:spcBef>
                <a:spcPts val="13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parties are responsible for the nominating process, while interest groups hope to influence those nomin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imary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640" indent="-305640">
              <a:spcBef>
                <a:spcPts val="13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parties are interested in winning elections and controlling government, while interest groups are interested in influencing the policies created by gover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Scope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640" indent="-305640">
              <a:spcBef>
                <a:spcPts val="13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parties concern themselves with the whole range of public affairs, while interest groups tend to focus on issues that their members are concerned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Valuable Functions of Interest Grou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9240" indent="-309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groups raise awareness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ublic affai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issues that concern the people at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groups represent people who share attitudes rather than those who share geogra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groups provide specialized information to government agencies and legisl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groups are vehicles for political particip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groups keep tabs on various public agencies and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groups comp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2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riticism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roups have an influence far out of proportion to their size or impor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difficult to tell who or how many people are served by a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do not always represent the views of the people they claim to speak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re cases, groups use tactics such as bribery, threat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1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What is the role of interest gro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Raising the interes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Organizing party con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Influencing public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ll of the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Which of the following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criticism of interest gro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hey keep tabs on public agenc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y may not represent the views of all of their me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Some use underhanded tac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Some have undue influe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32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2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ypes of Interest Grou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2360" y="834840"/>
            <a:ext cx="87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1960" indent="-29196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s the American tradition of joining organizations resulted in a wide range of interest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categories of groups based on economic intere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asons other interest groups hav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urpose of public-interest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9, Se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20:30:29Z</dcterms:created>
  <dc:creator>Prentice Hall</dc:creator>
  <dc:description/>
  <dc:language>en-US</dc:language>
  <cp:lastModifiedBy>Pearson Education</cp:lastModifiedBy>
  <cp:lastPrinted>2000-02-11T15:28:41Z</cp:lastPrinted>
  <dcterms:modified xsi:type="dcterms:W3CDTF">2001-05-09T17:12:18Z</dcterms:modified>
  <cp:revision>200</cp:revision>
  <dc:subject>World History Lecture Notes</dc:subject>
  <dc:title>Economics: Principles in Action</dc:title>
</cp:coreProperties>
</file>